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9ABF-49AC-4179-AD01-84E711EC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9394-7C59-471F-8AB0-0441236F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6B64-5E21-4A77-BFEF-7E03018B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B1C-B8DF-49FD-A432-4384F17D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B9B-0828-45C3-B3C9-947228C9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3D9-7E8D-4933-90A3-BAC5E308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725-1E41-46BB-8D29-7A256867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232F-0C74-4EF5-B1DB-69113337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FACF-ECB2-4A10-8A2C-99A9A98B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4970-1806-4E98-A4EA-74470520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951B-2F03-44BD-9C88-9345628D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32E-5FDC-474B-8513-A2CF9E14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B02B-20C7-4D97-AB6B-3281646C6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berbullying Pre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8954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4:54:32Z</dcterms:created>
  <dc:creator>dwilliams2</dc:creator>
  <dc:description/>
  <dc:language>en-US</dc:language>
  <cp:lastModifiedBy>dwilliams2</cp:lastModifiedBy>
  <dcterms:modified xsi:type="dcterms:W3CDTF">2012-11-05T14:54:40Z</dcterms:modified>
  <cp:revision>1</cp:revision>
  <dc:subject/>
  <dc:title>Cyberbullying Prevention</dc:title>
</cp:coreProperties>
</file>